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8A6-0628-46CD-9CD0-29FB0576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C30-9AEA-4654-976A-24DECB4E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D6D-BE2E-4DAE-A01D-34BAFDE6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8C5-5138-4F8A-A7B6-BE0DDB3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6CC-9324-4370-B9A8-1603C5C7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7EF-F5E4-4182-A05F-CB0A94A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044-8233-490E-8135-B907CE23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1D6-666C-4C1A-889A-E27072C6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494-9B07-43A2-A9EE-F8E8DF4C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7A6-9EE4-459C-8DDE-68C38C3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278-4282-4D37-A429-517A7B2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228-FD60-4944-B737-2984294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FB91-3B54-4705-81D3-AC51A3D11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ill There Was No Remedy”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Divided Kingdom, Part 2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7, 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nd of the Divid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23-1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The End of the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Divided Kingdom</a:t>
            </a:r>
            <a:endParaRPr b="0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581280"/>
            <a:ext cx="7391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The Next Period – Judah Alo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3429000"/>
            <a:ext cx="7848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3124080"/>
            <a:ext cx="609840" cy="7621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dols Destroyed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8:4; 2 Chron. 31: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Passover,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stroy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cred 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sherah p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arious high places and al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, the people went to their h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ore Reforms In Judah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Chron. 31:2-2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’s religious re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gned the priests their du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ted the regular sacrif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 contributed their first fruits and tit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reat surplus resulted from their genero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Fall of Samaria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3-6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served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rebelled against Assyria and joined an alliance with Egy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ypt was no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shea stopped paying tribute to Shalmane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Note: Tiglath-pileser died (727) BC and his son succeeded him.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Fall of Samaria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3-6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Hoshea’s 7th year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lmaneser V invaded the 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ieged Samaria for 3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halmaneser died before Assyria took Sam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gon finally conquered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amaria, An Assyrian Province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6, 24-41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zekiah - 6th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Kings 18: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raelites removed to Assy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ives from other nations were brought in to Sam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intermarried with the poor Israelites who were left and the mixed race became the “Samarita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ason For Israel’s Fall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7-18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ned against God (V. 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d the ways of the heathens (v. 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high places, images, and groves for worship (v. 9-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nt incense as the heathens (v. 1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d idols (v. 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gnored and rejected the prophets (v. 13-1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jected the covenant God made with their fathers (v. 1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Reason For Israel’s Fall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2 Kings 17:7-18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molten images, groves and even worshipped Baal (v. 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d their children to pass through the fire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divination and enchantments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d themselves to do evil (v. 1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s angry with Israel and removed them out of his sight (v. 1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1:40:27Z</dcterms:created>
  <dc:creator>Don Vines</dc:creator>
  <dc:description/>
  <dc:language>en-US</dc:language>
  <cp:lastModifiedBy>Frank D Vines</cp:lastModifiedBy>
  <dcterms:modified xsi:type="dcterms:W3CDTF">2006-02-13T02:50:31Z</dcterms:modified>
  <cp:revision>18</cp:revision>
  <dc:subject/>
  <dc:title>“Till There Was No Remedy” The Divided Kingdom, Part 2</dc:title>
</cp:coreProperties>
</file>